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32600" cy="9979025"/>
</p:presentation>
</file>

<file path=ppt/commentAuthors.xml><?xml version="1.0" encoding="utf-8"?>
<p:cmAuthorLst xmlns:p="http://schemas.openxmlformats.org/presentationml/2006/main">
  <p:cmAuthor id="0" name="pc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0-04-26T10:36:07.343000000" idx="1">
    <p:pos x="418" y="430"/>
    <p:text>Vitamina K: tocoferoles, anillo aromático reacciona con EROS
dolicoles: alcoholes isoprenoides utilizados para activar uniones glucosidicas, interaccina con lipidos de membrana anclando glúcidos, too en uniones polisacáridas en glicoproteinas
Vitamina D: Colecalciferol, el dvdo. 1,25-dihidroxicolecalciferol es una hormona que regula la captación de calcio en intestinoy de Ca y PO4 en tejido óse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E8C-B1D6-46D7-B2E7-31A93B7A12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083-5D7D-4F23-B454-BF161AE360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255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1160" y="4741920"/>
            <a:ext cx="50119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F5F-E5E8-47B3-9DAD-9C3382DF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900-DE82-421F-A42E-5B25B7F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866-8077-428D-9A2C-16505933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CB8-0789-44CD-9900-24002147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8EE-53B8-49A4-B5B2-6B361FC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31E-4DD2-4864-A7BB-BDE46052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10E-CD9B-417D-9AEA-4DC8E65D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B09-32C4-4B6E-A2E1-F7F2DA0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A5B-9989-4C0F-A979-51A8710B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E8-5326-4001-A8F8-5428027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F9D-B282-4C7C-8613-C76D33C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E01-B80B-4E48-88BE-6E9921C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2C71-85D0-47CC-9E93-CC8FF255CF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Green Sea Turt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encia de Acetil CoA , Enzimas y Poder re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771640" y="63914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5867280" y="4653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109" name="Group 10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111" name="AutoShape 12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13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14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5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Oval 16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7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120" name="Text Box 21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4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5508720" y="3540240"/>
              <a:ext cx="50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7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8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796000" y="6026040"/>
            <a:ext cx="272736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Vegetales por acción de la 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11280" y="2924280"/>
            <a:ext cx="7489800" cy="38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DD41-060F-44DA-B89E-80CFE9BCEE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63640" y="333360"/>
            <a:ext cx="7427880" cy="93492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H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usa biotina (vit B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sitio de regulación 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44" name="Line 9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149" name="Picture 14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5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6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4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5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3132000" y="4437000"/>
            <a:ext cx="579600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n Vegetales (+) por aumento de pH y [Mg] en el estroma, proceso que se produce durante la iluminación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3132000" y="4575240"/>
            <a:ext cx="579600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3300"/>
                </a:solidFill>
                <a:latin typeface="Arial"/>
              </a:rPr>
              <a:t>En Bacterias (+) por nucleótidos de guanina que coordinan el crecimiento celular en la formación de membr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1 CuadroTexto"/>
          <p:cNvSpPr/>
          <p:nvPr/>
        </p:nvSpPr>
        <p:spPr>
          <a:xfrm>
            <a:off x="428760" y="571680"/>
            <a:ext cx="8358120" cy="6066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A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PROTEINA TRANSPORTADORA  DE ACILO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(ACP Ó 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ENZIMA CONDENSANTE  (EC Ó 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TRASNFERASAS (AT y 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Acil-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Malonil-transferasa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REDUCTASAS (KR y 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Ceto Reduc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- Enoil reduc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438280" y="1709640"/>
            <a:ext cx="4483080" cy="4815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26920" y="260280"/>
            <a:ext cx="7705800" cy="106884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LEJO MULTIENZIMATICO   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124000" y="4797360"/>
            <a:ext cx="4103640" cy="9471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 ACETIL-CoA y 7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187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539640" y="115920"/>
            <a:ext cx="8136000" cy="1068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QUEMA GENERAL DE LA BIOSINTESIS DE ACIDO PALM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2"/>
          <p:cNvSpPr/>
          <p:nvPr/>
        </p:nvSpPr>
        <p:spPr>
          <a:xfrm>
            <a:off x="34920" y="544500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9"/>
          <p:cNvSpPr/>
          <p:nvPr/>
        </p:nvSpPr>
        <p:spPr>
          <a:xfrm>
            <a:off x="250920" y="3573360"/>
            <a:ext cx="8101080" cy="2305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CUANTAS ACETIL-CoA SE NECESITAN COMO TA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Y CUANTAS PARA SINTETIZAR 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250920" y="2997360"/>
            <a:ext cx="8172360" cy="328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La biosíntesis ocurre de derecha 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o de izquierda a derecha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1"/>
          <p:cNvSpPr/>
          <p:nvPr/>
        </p:nvSpPr>
        <p:spPr>
          <a:xfrm>
            <a:off x="539640" y="1557360"/>
            <a:ext cx="2376720" cy="576360"/>
          </a:xfrm>
          <a:prstGeom prst="wedgeRectCallout">
            <a:avLst>
              <a:gd name="adj1" fmla="val -56814"/>
              <a:gd name="adj2" fmla="val 94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Quien aporta los carbonos 15 y 16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2"/>
          <p:cNvSpPr/>
          <p:nvPr/>
        </p:nvSpPr>
        <p:spPr>
          <a:xfrm>
            <a:off x="5003640" y="1341360"/>
            <a:ext cx="3168720" cy="863640"/>
          </a:xfrm>
          <a:prstGeom prst="wedgeRectCallout">
            <a:avLst>
              <a:gd name="adj1" fmla="val -66481"/>
              <a:gd name="adj2" fmla="val 71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uales carbonos son aportados por el carbonilo de malonato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468360" y="2708280"/>
            <a:ext cx="2160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2"/>
          <p:cNvGrpSpPr/>
          <p:nvPr/>
        </p:nvGrpSpPr>
        <p:grpSpPr>
          <a:xfrm>
            <a:off x="395280" y="907920"/>
            <a:ext cx="7561440" cy="943920"/>
            <a:chOff x="395280" y="907920"/>
            <a:chExt cx="7561440" cy="943920"/>
          </a:xfrm>
        </p:grpSpPr>
        <p:sp>
          <p:nvSpPr>
            <p:cNvPr id="223" name="Text Box 19"/>
            <p:cNvSpPr/>
            <p:nvPr/>
          </p:nvSpPr>
          <p:spPr>
            <a:xfrm>
              <a:off x="5796000" y="907920"/>
              <a:ext cx="21607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395280" y="90792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00720" y="141120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1"/>
            <p:cNvSpPr/>
            <p:nvPr/>
          </p:nvSpPr>
          <p:spPr>
            <a:xfrm>
              <a:off x="4067280" y="105228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2"/>
            <p:cNvSpPr/>
            <p:nvPr/>
          </p:nvSpPr>
          <p:spPr>
            <a:xfrm>
              <a:off x="4788000" y="105228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25 Grupo"/>
          <p:cNvGrpSpPr/>
          <p:nvPr/>
        </p:nvGrpSpPr>
        <p:grpSpPr>
          <a:xfrm>
            <a:off x="142920" y="500040"/>
            <a:ext cx="8858160" cy="1870200"/>
            <a:chOff x="142920" y="500040"/>
            <a:chExt cx="8858160" cy="1870200"/>
          </a:xfrm>
        </p:grpSpPr>
        <p:sp>
          <p:nvSpPr>
            <p:cNvPr id="240" name="Text Box 3"/>
            <p:cNvSpPr/>
            <p:nvPr/>
          </p:nvSpPr>
          <p:spPr>
            <a:xfrm>
              <a:off x="142920" y="500040"/>
              <a:ext cx="8858160" cy="1870200"/>
            </a:xfrm>
            <a:prstGeom prst="rect">
              <a:avLst/>
            </a:prstGeom>
            <a:noFill/>
            <a:ln w="93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</a:t>
              </a:r>
              <a:r>
                <a:rPr b="1" i="1" lang="es-PE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i="1" lang="es-PE" sz="2000" spc="-1" strike="noStrike">
                  <a:solidFill>
                    <a:srgbClr val="0000ff"/>
                  </a:solidFill>
                  <a:latin typeface="Arial"/>
                </a:rPr>
                <a:t>-Cetoacil-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–C-SACP + 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PE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H-C</a:t>
              </a:r>
              <a:r>
                <a:rPr b="0" lang="es-PE" sz="2000" spc="-1" strike="noStrike">
                  <a:solidFill>
                    <a:srgbClr val="c00000"/>
                  </a:solidFill>
                  <a:latin typeface="Arial"/>
                </a:rPr>
                <a:t>H</a:t>
              </a:r>
              <a:r>
                <a:rPr b="0" lang="es-P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PE" sz="2000" spc="-1" strike="noStrike">
                  <a:solidFill>
                    <a:srgbClr val="000000"/>
                  </a:solidFill>
                  <a:latin typeface="Arial"/>
                </a:rPr>
                <a:t>-C-SACP+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PE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            O                                                     </a:t>
              </a:r>
              <a:r>
                <a:rPr b="0" lang="es-ES_tradnl" sz="2000" spc="-1" strike="noStrike">
                  <a:solidFill>
                    <a:srgbClr val="c00000"/>
                  </a:solidFill>
                  <a:latin typeface="Arial"/>
                </a:rPr>
                <a:t>OH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Acetoacetil-S-ACP                                  </a:t>
              </a:r>
              <a:r>
                <a:rPr b="1" lang="es-P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-3-Hidroxibutiril-S-ACP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4 Flecha derecha"/>
            <p:cNvSpPr/>
            <p:nvPr/>
          </p:nvSpPr>
          <p:spPr>
            <a:xfrm>
              <a:off x="4643280" y="1084320"/>
              <a:ext cx="428400" cy="142560"/>
            </a:xfrm>
            <a:prstGeom prst="rightArrow">
              <a:avLst>
                <a:gd name="adj1" fmla="val 50000"/>
                <a:gd name="adj2" fmla="val 50098"/>
              </a:avLst>
            </a:prstGeom>
            <a:solidFill>
              <a:srgbClr val="19194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5 CuadroTexto"/>
            <p:cNvSpPr/>
            <p:nvPr/>
          </p:nvSpPr>
          <p:spPr>
            <a:xfrm rot="5400000">
              <a:off x="68760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6 CuadroTexto"/>
            <p:cNvSpPr/>
            <p:nvPr/>
          </p:nvSpPr>
          <p:spPr>
            <a:xfrm rot="5400000">
              <a:off x="168768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7 CuadroTexto"/>
            <p:cNvSpPr/>
            <p:nvPr/>
          </p:nvSpPr>
          <p:spPr>
            <a:xfrm rot="5400000">
              <a:off x="6545520" y="118296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8 CuadroTexto"/>
            <p:cNvSpPr/>
            <p:nvPr/>
          </p:nvSpPr>
          <p:spPr>
            <a:xfrm rot="5400000">
              <a:off x="5527440" y="12006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 Narrow"/>
                </a:rPr>
                <a:t>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7 Grupo"/>
          <p:cNvGrpSpPr/>
          <p:nvPr/>
        </p:nvGrpSpPr>
        <p:grpSpPr>
          <a:xfrm>
            <a:off x="285840" y="2571840"/>
            <a:ext cx="8501040" cy="2131920"/>
            <a:chOff x="285840" y="2571840"/>
            <a:chExt cx="8501040" cy="2131920"/>
          </a:xfrm>
        </p:grpSpPr>
        <p:grpSp>
          <p:nvGrpSpPr>
            <p:cNvPr id="247" name="26 Grupo"/>
            <p:cNvGrpSpPr/>
            <p:nvPr/>
          </p:nvGrpSpPr>
          <p:grpSpPr>
            <a:xfrm>
              <a:off x="285840" y="2571840"/>
              <a:ext cx="8501040" cy="2131920"/>
              <a:chOff x="285840" y="2571840"/>
              <a:chExt cx="8501040" cy="2131920"/>
            </a:xfrm>
          </p:grpSpPr>
          <p:sp>
            <p:nvSpPr>
              <p:cNvPr id="248" name="Text Box 6"/>
              <p:cNvSpPr/>
              <p:nvPr/>
            </p:nvSpPr>
            <p:spPr>
              <a:xfrm>
                <a:off x="285840" y="2571840"/>
                <a:ext cx="8501040" cy="2131920"/>
              </a:xfrm>
              <a:prstGeom prst="rect">
                <a:avLst/>
              </a:prstGeom>
              <a:noFill/>
              <a:ln w="12600">
                <a:solidFill>
                  <a:srgbClr val="2626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</a:t>
                </a:r>
                <a:r>
                  <a:rPr b="1" i="1" lang="es-ES_tradnl" sz="2000" spc="-1" strike="noStrike">
                    <a:solidFill>
                      <a:srgbClr val="0000ff"/>
                    </a:solidFill>
                    <a:latin typeface="Arial"/>
                  </a:rPr>
                  <a:t>-3-Hidroxiacil-deshidratasa</a:t>
                </a:r>
                <a:r>
                  <a:rPr b="0" i="1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CH-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 C-  SACP 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  CH</a:t>
                </a:r>
                <a:r>
                  <a:rPr b="0" lang="es-PE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=CH-C - SAC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O 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c00000"/>
                    </a:solidFill>
                    <a:latin typeface="Arial"/>
                  </a:rPr>
                  <a:t>H</a:t>
                </a:r>
                <a:r>
                  <a:rPr b="0" lang="es-ES_tradnl" sz="2000" spc="-1" strike="noStrike" baseline="-25000">
                    <a:solidFill>
                      <a:srgbClr val="c00000"/>
                    </a:solidFill>
                    <a:latin typeface="Arial"/>
                  </a:rPr>
                  <a:t>2</a:t>
                </a:r>
                <a:r>
                  <a:rPr b="0" lang="es-ES_tradnl" sz="2000" spc="-1" strike="noStrike">
                    <a:solidFill>
                      <a:srgbClr val="c00000"/>
                    </a:solidFill>
                    <a:latin typeface="Arial"/>
                  </a:rPr>
                  <a:t>O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                   O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20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-3-Hidroxibutiril-S-ACP  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PE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PE" sz="2000" spc="-1" strike="noStrike">
                    <a:solidFill>
                      <a:srgbClr val="000000"/>
                    </a:solidFill>
                    <a:latin typeface="Arial"/>
                  </a:rPr>
                  <a:t> trans butenoil AC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22 Grupo"/>
              <p:cNvGrpSpPr/>
              <p:nvPr/>
            </p:nvGrpSpPr>
            <p:grpSpPr>
              <a:xfrm>
                <a:off x="3429000" y="3214800"/>
                <a:ext cx="1058040" cy="180720"/>
                <a:chOff x="3429000" y="3214800"/>
                <a:chExt cx="1058040" cy="180720"/>
              </a:xfrm>
            </p:grpSpPr>
            <p:sp>
              <p:nvSpPr>
                <p:cNvPr id="250" name="Line 11"/>
                <p:cNvSpPr/>
                <p:nvPr/>
              </p:nvSpPr>
              <p:spPr>
                <a:xfrm flipV="1">
                  <a:off x="3429000" y="3214800"/>
                  <a:ext cx="105804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2"/>
                <p:cNvSpPr/>
                <p:nvPr/>
              </p:nvSpPr>
              <p:spPr>
                <a:xfrm>
                  <a:off x="3823920" y="3214800"/>
                  <a:ext cx="131400" cy="18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Group 8"/>
            <p:cNvGrpSpPr/>
            <p:nvPr/>
          </p:nvGrpSpPr>
          <p:grpSpPr>
            <a:xfrm>
              <a:off x="2000160" y="3346560"/>
              <a:ext cx="66240" cy="93240"/>
              <a:chOff x="2000160" y="3346560"/>
              <a:chExt cx="66240" cy="9324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2066400" y="334656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2000160" y="3348720"/>
                <a:ext cx="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17"/>
            <p:cNvSpPr/>
            <p:nvPr/>
          </p:nvSpPr>
          <p:spPr>
            <a:xfrm>
              <a:off x="1000080" y="3346560"/>
              <a:ext cx="0" cy="10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"/>
            <p:cNvGrpSpPr/>
            <p:nvPr/>
          </p:nvGrpSpPr>
          <p:grpSpPr>
            <a:xfrm>
              <a:off x="6286680" y="3346560"/>
              <a:ext cx="66240" cy="93240"/>
              <a:chOff x="6286680" y="3346560"/>
              <a:chExt cx="66240" cy="93240"/>
            </a:xfrm>
          </p:grpSpPr>
          <p:sp>
            <p:nvSpPr>
              <p:cNvPr id="257" name="Line 14"/>
              <p:cNvSpPr/>
              <p:nvPr/>
            </p:nvSpPr>
            <p:spPr>
              <a:xfrm>
                <a:off x="6352920" y="334656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6286680" y="3348720"/>
                <a:ext cx="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 Box 3"/>
          <p:cNvSpPr/>
          <p:nvPr/>
        </p:nvSpPr>
        <p:spPr>
          <a:xfrm>
            <a:off x="142920" y="4844880"/>
            <a:ext cx="8858160" cy="187020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PE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s-PE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 trans </a:t>
            </a:r>
            <a:r>
              <a:rPr b="1" i="1" lang="es-PE" sz="2000" spc="-1" strike="noStrike">
                <a:solidFill>
                  <a:srgbClr val="0000ff"/>
                </a:solidFill>
                <a:latin typeface="Arial"/>
              </a:rPr>
              <a:t>-enoil-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–CH=CH–C-SACP +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ADPH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P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        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-C-SACP+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1" lang="es-P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           </a:t>
            </a:r>
            <a:r>
              <a:rPr b="0" lang="es-P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P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trans butenoil ACP                                        </a:t>
            </a:r>
            <a:r>
              <a:rPr b="1" lang="es-PE" sz="2000" spc="-1" strike="noStrike" u="sng">
                <a:solidFill>
                  <a:srgbClr val="c00000"/>
                </a:solidFill>
                <a:uFillTx/>
                <a:latin typeface="Arial"/>
              </a:rPr>
              <a:t>Butiril-S-AC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0 Flecha derecha"/>
          <p:cNvSpPr/>
          <p:nvPr/>
        </p:nvSpPr>
        <p:spPr>
          <a:xfrm>
            <a:off x="4786200" y="5299200"/>
            <a:ext cx="42876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19194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2 CuadroTexto"/>
          <p:cNvSpPr/>
          <p:nvPr/>
        </p:nvSpPr>
        <p:spPr>
          <a:xfrm rot="5400000">
            <a:off x="1688760" y="55278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 Narrow"/>
              </a:rPr>
              <a:t>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3 CuadroTexto"/>
          <p:cNvSpPr/>
          <p:nvPr/>
        </p:nvSpPr>
        <p:spPr>
          <a:xfrm rot="5400000">
            <a:off x="6748560" y="552780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 Narrow"/>
              </a:rPr>
              <a:t>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5 Elipse"/>
          <p:cNvSpPr/>
          <p:nvPr/>
        </p:nvSpPr>
        <p:spPr>
          <a:xfrm>
            <a:off x="673200" y="861840"/>
            <a:ext cx="469800" cy="924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36 Elipse"/>
          <p:cNvSpPr/>
          <p:nvPr/>
        </p:nvSpPr>
        <p:spPr>
          <a:xfrm>
            <a:off x="5572080" y="928800"/>
            <a:ext cx="57168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37 Elipse"/>
          <p:cNvSpPr/>
          <p:nvPr/>
        </p:nvSpPr>
        <p:spPr>
          <a:xfrm>
            <a:off x="5286240" y="2786040"/>
            <a:ext cx="92880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8 Elipse"/>
          <p:cNvSpPr/>
          <p:nvPr/>
        </p:nvSpPr>
        <p:spPr>
          <a:xfrm>
            <a:off x="5715000" y="5143680"/>
            <a:ext cx="571680" cy="857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D096-0A8D-47BB-841D-1991CE4FB88E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270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Text Box 8"/>
          <p:cNvSpPr/>
          <p:nvPr/>
        </p:nvSpPr>
        <p:spPr>
          <a:xfrm>
            <a:off x="611280" y="4292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274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de los lí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sajeros celulares (eicosanoides, derivados de fosfatidilinosit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Acetil-CoA  +  7 ATP  +  14 NADPH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79280" y="4797360"/>
            <a:ext cx="1873440" cy="86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ON DEGRADACION-BIOSI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205740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4832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ON DE LOS A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228600" y="1600200"/>
            <a:ext cx="2819520" cy="405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6019920" y="1528920"/>
            <a:ext cx="2971800" cy="405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4267080" y="1081080"/>
            <a:ext cx="1447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4267080" y="1843200"/>
            <a:ext cx="1447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6"/>
          <p:cNvSpPr/>
          <p:nvPr/>
        </p:nvSpPr>
        <p:spPr>
          <a:xfrm>
            <a:off x="3276720" y="1752480"/>
            <a:ext cx="25146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"/>
          <p:cNvSpPr/>
          <p:nvPr/>
        </p:nvSpPr>
        <p:spPr>
          <a:xfrm rot="20845200">
            <a:off x="2895120" y="11430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8"/>
          <p:cNvSpPr/>
          <p:nvPr/>
        </p:nvSpPr>
        <p:spPr>
          <a:xfrm rot="759600">
            <a:off x="2971800" y="1828800"/>
            <a:ext cx="13716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228600" y="317340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24000" y="4665600"/>
            <a:ext cx="2647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aroil-CoA (18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643280" y="4589640"/>
            <a:ext cx="26481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leil-CoA (18:1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250920" y="4110120"/>
            <a:ext cx="2709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4572000" y="4073400"/>
            <a:ext cx="3240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leil-CoA (16:1)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3124080" y="428472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3124080" y="4818240"/>
            <a:ext cx="1295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458200" cy="792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POLI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24000" y="1125360"/>
            <a:ext cx="309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leil-CoA 18:1 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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5148360" y="1125360"/>
            <a:ext cx="374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oleil-CoA 18:2 (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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3564000" y="1413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1"/>
          <p:cNvGrpSpPr/>
          <p:nvPr/>
        </p:nvGrpSpPr>
        <p:grpSpPr>
          <a:xfrm>
            <a:off x="357120" y="2000160"/>
            <a:ext cx="1752480" cy="642600"/>
            <a:chOff x="357120" y="2000160"/>
            <a:chExt cx="1752480" cy="642600"/>
          </a:xfrm>
        </p:grpSpPr>
        <p:sp>
          <p:nvSpPr>
            <p:cNvPr id="363" name="Text Box 12"/>
            <p:cNvSpPr/>
            <p:nvPr/>
          </p:nvSpPr>
          <p:spPr>
            <a:xfrm>
              <a:off x="357120" y="2000160"/>
              <a:ext cx="1752480" cy="64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inoleil-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18: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1195200" y="22287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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36 Grupo"/>
          <p:cNvGrpSpPr/>
          <p:nvPr/>
        </p:nvGrpSpPr>
        <p:grpSpPr>
          <a:xfrm>
            <a:off x="5000760" y="1928880"/>
            <a:ext cx="2743200" cy="642600"/>
            <a:chOff x="5000760" y="1928880"/>
            <a:chExt cx="2743200" cy="642600"/>
          </a:xfrm>
        </p:grpSpPr>
        <p:sp>
          <p:nvSpPr>
            <p:cNvPr id="366" name="Text Box 15"/>
            <p:cNvSpPr/>
            <p:nvPr/>
          </p:nvSpPr>
          <p:spPr>
            <a:xfrm>
              <a:off x="5000760" y="1928880"/>
              <a:ext cx="2743200" cy="64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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ó 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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inolenoil-S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18:3                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5610240" y="2157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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6643800" y="21416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</a:t>
              </a:r>
              <a:r>
                <a:rPr b="0" lang="es-E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25"/>
          <p:cNvSpPr/>
          <p:nvPr/>
        </p:nvSpPr>
        <p:spPr>
          <a:xfrm>
            <a:off x="5000760" y="4572000"/>
            <a:ext cx="220968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ido Araquid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0: 4 (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5,8,11,14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2786040" y="20718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116240" y="36432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4344840" y="31431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on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38 Conector recto de flecha"/>
          <p:cNvCxnSpPr/>
          <p:nvPr/>
        </p:nvCxnSpPr>
        <p:spPr>
          <a:xfrm>
            <a:off x="2500200" y="2499840"/>
            <a:ext cx="22867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40 Conector recto de flecha"/>
          <p:cNvCxnSpPr/>
          <p:nvPr/>
        </p:nvCxnSpPr>
        <p:spPr>
          <a:xfrm flipH="1">
            <a:off x="6214320" y="2857320"/>
            <a:ext cx="1080" cy="143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los Fosfo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beza polar (fosfato + alcoho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a hidrófoba (ácidos gra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squeleto Básic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Glicerol ó Esfingos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cido fosfat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H="1">
            <a:off x="3779640" y="3284640"/>
            <a:ext cx="936360" cy="72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Esfing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7164360" y="3357720"/>
            <a:ext cx="432000" cy="6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icerofosfoli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etanol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se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atidilgli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dioli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sp8431"/>
          <p:cNvPicPr/>
          <p:nvPr/>
        </p:nvPicPr>
        <p:blipFill>
          <a:blip r:embed="rId1"/>
          <a:srcRect l="77517" t="0" r="0" b="47312"/>
          <a:stretch/>
        </p:blipFill>
        <p:spPr>
          <a:xfrm>
            <a:off x="4788000" y="3500280"/>
            <a:ext cx="1944720" cy="1516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"/>
          <p:cNvGrpSpPr/>
          <p:nvPr/>
        </p:nvGrpSpPr>
        <p:grpSpPr>
          <a:xfrm>
            <a:off x="4643280" y="2781360"/>
            <a:ext cx="2449440" cy="822960"/>
            <a:chOff x="4643280" y="2781360"/>
            <a:chExt cx="2449440" cy="822960"/>
          </a:xfrm>
        </p:grpSpPr>
        <p:sp>
          <p:nvSpPr>
            <p:cNvPr id="389" name="Text Box 8"/>
            <p:cNvSpPr/>
            <p:nvPr/>
          </p:nvSpPr>
          <p:spPr>
            <a:xfrm>
              <a:off x="4643280" y="2781360"/>
              <a:ext cx="244944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-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9"/>
            <p:cNvSpPr/>
            <p:nvPr/>
          </p:nvSpPr>
          <p:spPr>
            <a:xfrm>
              <a:off x="5651280" y="3070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4140360" y="4869000"/>
            <a:ext cx="2952720" cy="822960"/>
            <a:chOff x="4140360" y="4869000"/>
            <a:chExt cx="2952720" cy="822960"/>
          </a:xfrm>
        </p:grpSpPr>
        <p:sp>
          <p:nvSpPr>
            <p:cNvPr id="392" name="Text Box 11"/>
            <p:cNvSpPr/>
            <p:nvPr/>
          </p:nvSpPr>
          <p:spPr>
            <a:xfrm>
              <a:off x="4140360" y="4869000"/>
              <a:ext cx="295272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-CH—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2"/>
            <p:cNvSpPr/>
            <p:nvPr/>
          </p:nvSpPr>
          <p:spPr>
            <a:xfrm>
              <a:off x="5507280" y="51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13" descr="sp6641"/>
          <p:cNvPicPr/>
          <p:nvPr/>
        </p:nvPicPr>
        <p:blipFill>
          <a:blip r:embed="rId2"/>
          <a:srcRect l="75238" t="0" r="0" b="24453"/>
          <a:stretch/>
        </p:blipFill>
        <p:spPr>
          <a:xfrm>
            <a:off x="539640" y="393372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14"/>
          <p:cNvSpPr/>
          <p:nvPr/>
        </p:nvSpPr>
        <p:spPr>
          <a:xfrm>
            <a:off x="3203640" y="6093000"/>
            <a:ext cx="27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fosfatidilgli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RATEGIAS DIFERENTES PARA LA BIOSINTESIS DE FOSFOGLIC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ón del esqueleto hidrofo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ctivacion de la cabeza p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fosfatídico +  CTP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402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>
              <a:off x="414036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Biosíntesis de Fosfo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33520" y="198108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7315200" y="1828800"/>
            <a:ext cx="8380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3520" y="281952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4191120" y="1752480"/>
            <a:ext cx="14475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934320" y="2666880"/>
            <a:ext cx="20574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Fosfo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4038480" y="2514600"/>
            <a:ext cx="1752840" cy="642600"/>
          </a:xfrm>
          <a:prstGeom prst="rect">
            <a:avLst/>
          </a:prstGeom>
          <a:solidFill>
            <a:srgbClr val="f9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DO FOSFATI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505320"/>
            <a:ext cx="20574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P-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7086600" y="3429000"/>
            <a:ext cx="182880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inos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4267080" y="4495680"/>
            <a:ext cx="17528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6629400" y="4648320"/>
            <a:ext cx="190512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038480" y="5257800"/>
            <a:ext cx="23623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419720" y="6095880"/>
            <a:ext cx="17524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sfatid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6320" y="5257800"/>
            <a:ext cx="16002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0880" y="6100920"/>
            <a:ext cx="99072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6781680" y="5562720"/>
            <a:ext cx="14479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dioli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28195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182880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533520" y="129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70866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4038480" y="1066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UCARIOTAS Y PRO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144792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312408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243828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45720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3276720" y="58053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D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8"/>
          <p:cNvSpPr/>
          <p:nvPr/>
        </p:nvSpPr>
        <p:spPr>
          <a:xfrm>
            <a:off x="60958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G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9"/>
          <p:cNvSpPr/>
          <p:nvPr/>
        </p:nvSpPr>
        <p:spPr>
          <a:xfrm>
            <a:off x="274320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ff"/>
                </a:solidFill>
                <a:latin typeface="Arial"/>
              </a:rPr>
              <a:t>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0"/>
          <p:cNvSpPr/>
          <p:nvPr/>
        </p:nvSpPr>
        <p:spPr>
          <a:xfrm>
            <a:off x="5029200" y="2133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2 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4191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S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6095880" y="3200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</a:rPr>
              <a:t>Inosi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1752480" y="54864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3048120" y="54864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24382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>
            <a:off x="3505320" y="64008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5334120" y="5715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286000" y="2209680"/>
            <a:ext cx="152388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7391520" y="51055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 flipV="1">
            <a:off x="2286000" y="2742840"/>
            <a:ext cx="1600200" cy="3049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3"/>
          <p:cNvSpPr/>
          <p:nvPr/>
        </p:nvSpPr>
        <p:spPr>
          <a:xfrm>
            <a:off x="518148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4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5943600" y="2286000"/>
            <a:ext cx="137160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7"/>
          <p:cNvSpPr/>
          <p:nvPr/>
        </p:nvSpPr>
        <p:spPr>
          <a:xfrm>
            <a:off x="5638680" y="3962520"/>
            <a:ext cx="12193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9"/>
          <p:cNvSpPr/>
          <p:nvPr/>
        </p:nvSpPr>
        <p:spPr>
          <a:xfrm>
            <a:off x="6248520" y="358128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tabolismo de los Isopr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250920" y="2637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prenoides o 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843280" y="1844640"/>
            <a:ext cx="19447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2916360" y="2997360"/>
            <a:ext cx="24476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ido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916360" y="4005360"/>
            <a:ext cx="3600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3637080" y="4843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li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3708360" y="5276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3564000" y="578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635280" y="63086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iberelinas, ácido absc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5651640" y="1197000"/>
            <a:ext cx="2519280" cy="1368360"/>
            <a:chOff x="5651640" y="1197000"/>
            <a:chExt cx="2519280" cy="1368360"/>
          </a:xfrm>
        </p:grpSpPr>
        <p:sp>
          <p:nvSpPr>
            <p:cNvPr id="464" name="Oval 12"/>
            <p:cNvSpPr/>
            <p:nvPr/>
          </p:nvSpPr>
          <p:spPr>
            <a:xfrm>
              <a:off x="5794200" y="1197000"/>
              <a:ext cx="2303640" cy="1368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13"/>
            <p:cNvGrpSpPr/>
            <p:nvPr/>
          </p:nvGrpSpPr>
          <p:grpSpPr>
            <a:xfrm>
              <a:off x="5651640" y="1341360"/>
              <a:ext cx="2519280" cy="1034640"/>
              <a:chOff x="5651640" y="1341360"/>
              <a:chExt cx="2519280" cy="1034640"/>
            </a:xfrm>
          </p:grpSpPr>
          <p:sp>
            <p:nvSpPr>
              <p:cNvPr id="466" name="Text Box 14"/>
              <p:cNvSpPr/>
              <p:nvPr/>
            </p:nvSpPr>
            <p:spPr>
              <a:xfrm>
                <a:off x="5651640" y="1341360"/>
                <a:ext cx="24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Colestero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5"/>
              <p:cNvSpPr/>
              <p:nvPr/>
            </p:nvSpPr>
            <p:spPr>
              <a:xfrm>
                <a:off x="5722920" y="1916280"/>
                <a:ext cx="24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Hormon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16"/>
          <p:cNvGrpSpPr/>
          <p:nvPr/>
        </p:nvGrpSpPr>
        <p:grpSpPr>
          <a:xfrm>
            <a:off x="5580000" y="2709720"/>
            <a:ext cx="3314880" cy="1224000"/>
            <a:chOff x="5580000" y="2709720"/>
            <a:chExt cx="3314880" cy="1224000"/>
          </a:xfrm>
        </p:grpSpPr>
        <p:sp>
          <p:nvSpPr>
            <p:cNvPr id="469" name="Oval 17"/>
            <p:cNvSpPr/>
            <p:nvPr/>
          </p:nvSpPr>
          <p:spPr>
            <a:xfrm>
              <a:off x="5580000" y="2709720"/>
              <a:ext cx="3313080" cy="122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5724360" y="2852640"/>
              <a:ext cx="3170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.cólico, desoxic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Quenodesoxic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19"/>
          <p:cNvSpPr/>
          <p:nvPr/>
        </p:nvSpPr>
        <p:spPr>
          <a:xfrm>
            <a:off x="5219640" y="4508640"/>
            <a:ext cx="1728720" cy="792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, D, E y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0"/>
          <p:cNvGrpSpPr/>
          <p:nvPr/>
        </p:nvGrpSpPr>
        <p:grpSpPr>
          <a:xfrm>
            <a:off x="144360" y="4724280"/>
            <a:ext cx="3203640" cy="1647720"/>
            <a:chOff x="144360" y="4724280"/>
            <a:chExt cx="3203640" cy="1647720"/>
          </a:xfrm>
        </p:grpSpPr>
        <p:pic>
          <p:nvPicPr>
            <p:cNvPr id="473" name="Picture 21" descr=""/>
            <p:cNvPicPr/>
            <p:nvPr/>
          </p:nvPicPr>
          <p:blipFill>
            <a:blip r:embed="rId7"/>
            <a:stretch/>
          </p:blipFill>
          <p:spPr>
            <a:xfrm>
              <a:off x="144360" y="4724280"/>
              <a:ext cx="320364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22"/>
            <p:cNvSpPr/>
            <p:nvPr/>
          </p:nvSpPr>
          <p:spPr>
            <a:xfrm>
              <a:off x="971280" y="5949720"/>
              <a:ext cx="1346400" cy="42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ISOP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BIOSINTESIS DE LIPIDOS EN VEGET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2.bp.blogspot.com/_vCeZTM62FUk/TB3ZlcbRGmI/AAAAAAAAAAk/0TGqbA6hAcU/s320/raices.jpg"/>
          <p:cNvPicPr/>
          <p:nvPr/>
        </p:nvPicPr>
        <p:blipFill>
          <a:blip r:embed="rId1"/>
          <a:stretch/>
        </p:blipFill>
        <p:spPr>
          <a:xfrm>
            <a:off x="642960" y="2214720"/>
            <a:ext cx="4095720" cy="3071520"/>
          </a:xfrm>
          <a:prstGeom prst="rect">
            <a:avLst/>
          </a:prstGeom>
          <a:ln w="0">
            <a:noFill/>
          </a:ln>
        </p:spPr>
      </p:pic>
      <p:cxnSp>
        <p:nvCxnSpPr>
          <p:cNvPr id="53" name="7 Conector recto de flecha"/>
          <p:cNvCxnSpPr/>
          <p:nvPr/>
        </p:nvCxnSpPr>
        <p:spPr>
          <a:xfrm>
            <a:off x="4214880" y="2714760"/>
            <a:ext cx="2286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11 CuadroTexto"/>
          <p:cNvSpPr/>
          <p:nvPr/>
        </p:nvSpPr>
        <p:spPr>
          <a:xfrm>
            <a:off x="6500880" y="25718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 CuadroTexto"/>
          <p:cNvSpPr/>
          <p:nvPr/>
        </p:nvSpPr>
        <p:spPr>
          <a:xfrm>
            <a:off x="6215040" y="42148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PLAST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13 Conector recto de flecha"/>
          <p:cNvCxnSpPr/>
          <p:nvPr/>
        </p:nvCxnSpPr>
        <p:spPr>
          <a:xfrm>
            <a:off x="2857680" y="3857400"/>
            <a:ext cx="30009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15 Conector recto de flecha"/>
          <p:cNvCxnSpPr/>
          <p:nvPr/>
        </p:nvCxnSpPr>
        <p:spPr>
          <a:xfrm>
            <a:off x="2928960" y="4572000"/>
            <a:ext cx="2929680" cy="7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17 CuadroTexto"/>
          <p:cNvSpPr/>
          <p:nvPr/>
        </p:nvSpPr>
        <p:spPr>
          <a:xfrm>
            <a:off x="500040" y="57150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HOJAS, TALLOS Y RAICES: LIPIDOS DE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539640" y="189000"/>
            <a:ext cx="5400720" cy="645948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6300720" y="2060640"/>
            <a:ext cx="2590920" cy="3803040"/>
          </a:xfrm>
          <a:prstGeom prst="rect">
            <a:avLst/>
          </a:prstGeom>
          <a:solidFill>
            <a:srgbClr val="f6faa4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rnesil-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también un sustrato en la adición de un grupo farnesilo a las proteína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ormaciòn de Hidroximetil glutaril-CoA a partir de Acetil-CoA (6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versiòn de HMG-CoA en escua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(30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versión de Escualeno en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 través de 20 reacciones (30 carbo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1042920" y="1628640"/>
            <a:ext cx="4681440" cy="1224000"/>
            <a:chOff x="1042920" y="1628640"/>
            <a:chExt cx="4681440" cy="1224000"/>
          </a:xfrm>
        </p:grpSpPr>
        <p:sp>
          <p:nvSpPr>
            <p:cNvPr id="481" name="Text Box 4"/>
            <p:cNvSpPr/>
            <p:nvPr/>
          </p:nvSpPr>
          <p:spPr>
            <a:xfrm>
              <a:off x="1042920" y="1844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5"/>
            <p:cNvSpPr/>
            <p:nvPr/>
          </p:nvSpPr>
          <p:spPr>
            <a:xfrm>
              <a:off x="3203640" y="1628640"/>
              <a:ext cx="431640" cy="1224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6"/>
            <p:cNvSpPr/>
            <p:nvPr/>
          </p:nvSpPr>
          <p:spPr>
            <a:xfrm>
              <a:off x="3708360" y="191628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7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485" name="Text Box 8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488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4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493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uerpos cet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8"/>
          <p:cNvGrpSpPr/>
          <p:nvPr/>
        </p:nvGrpSpPr>
        <p:grpSpPr>
          <a:xfrm>
            <a:off x="4643280" y="4292640"/>
            <a:ext cx="3168720" cy="1008000"/>
            <a:chOff x="4643280" y="4292640"/>
            <a:chExt cx="3168720" cy="1008000"/>
          </a:xfrm>
        </p:grpSpPr>
        <p:sp>
          <p:nvSpPr>
            <p:cNvPr id="496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0"/>
            <p:cNvSpPr/>
            <p:nvPr/>
          </p:nvSpPr>
          <p:spPr>
            <a:xfrm>
              <a:off x="6443640" y="450864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22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500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24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505" name="Text Box 28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507" name="Text Box 30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9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5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4419720" cy="5435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755640" y="260280"/>
            <a:ext cx="7632720" cy="7275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RIFICACION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51280" y="2997360"/>
            <a:ext cx="194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1763640" y="3357720"/>
            <a:ext cx="25923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il-CoA-colesterol Ac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(A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4643280" y="342900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-graso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3564000" y="6165720"/>
            <a:ext cx="2952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r de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ES Y ACIDOS B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ienen 24 C y 2 ó 3 hidroxi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anfi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gentes emulsio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PRIM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             (Cólico y Quenodesoxico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IDOS BILIARES SECUND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Desoxicólico y Lit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ALES BILIA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GLICINA Y TAU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Glicocólico ó taurocól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biodisol.com/wp-content/uploads/2008/05/semillas_y_frutos_de_jatropha_curcas_jatropha_seeds.jpg"/>
          <p:cNvPicPr/>
          <p:nvPr/>
        </p:nvPicPr>
        <p:blipFill>
          <a:blip r:embed="rId1"/>
          <a:stretch/>
        </p:blipFill>
        <p:spPr>
          <a:xfrm>
            <a:off x="714240" y="1500120"/>
            <a:ext cx="2857680" cy="218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mercadodelivery.cl/multimedia/fruta.jpg"/>
          <p:cNvPicPr/>
          <p:nvPr/>
        </p:nvPicPr>
        <p:blipFill>
          <a:blip r:embed="rId2"/>
          <a:stretch/>
        </p:blipFill>
        <p:spPr>
          <a:xfrm>
            <a:off x="285840" y="3929040"/>
            <a:ext cx="4093920" cy="2586240"/>
          </a:xfrm>
          <a:prstGeom prst="rect">
            <a:avLst/>
          </a:prstGeom>
          <a:ln w="0">
            <a:noFill/>
          </a:ln>
        </p:spPr>
      </p:pic>
      <p:cxnSp>
        <p:nvCxnSpPr>
          <p:cNvPr id="61" name="4 Conector recto de flecha"/>
          <p:cNvCxnSpPr/>
          <p:nvPr/>
        </p:nvCxnSpPr>
        <p:spPr>
          <a:xfrm>
            <a:off x="3642840" y="2643120"/>
            <a:ext cx="23583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6 Conector recto de flecha"/>
          <p:cNvCxnSpPr/>
          <p:nvPr/>
        </p:nvCxnSpPr>
        <p:spPr>
          <a:xfrm flipV="1">
            <a:off x="4428720" y="4142880"/>
            <a:ext cx="1715400" cy="858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8 Elipse"/>
          <p:cNvSpPr/>
          <p:nvPr/>
        </p:nvSpPr>
        <p:spPr>
          <a:xfrm>
            <a:off x="6215040" y="2714760"/>
            <a:ext cx="2286000" cy="171432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LIPIDOS DE RE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9 CuadroTexto"/>
          <p:cNvSpPr/>
          <p:nvPr/>
        </p:nvSpPr>
        <p:spPr>
          <a:xfrm>
            <a:off x="3786120" y="36432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PLASTI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euita.upv.es/varios/biologia/images/Figuras_tema11/figura11_18c.jpg"/>
          <p:cNvPicPr/>
          <p:nvPr/>
        </p:nvPicPr>
        <p:blipFill>
          <a:blip r:embed="rId1"/>
          <a:stretch/>
        </p:blipFill>
        <p:spPr>
          <a:xfrm>
            <a:off x="1357200" y="1928880"/>
            <a:ext cx="5610240" cy="3124080"/>
          </a:xfrm>
          <a:prstGeom prst="rect">
            <a:avLst/>
          </a:prstGeom>
          <a:ln w="0">
            <a:noFill/>
          </a:ln>
        </p:spPr>
      </p:pic>
      <p:cxnSp>
        <p:nvCxnSpPr>
          <p:cNvPr id="67" name="4 Conector recto de flecha"/>
          <p:cNvCxnSpPr/>
          <p:nvPr/>
        </p:nvCxnSpPr>
        <p:spPr>
          <a:xfrm>
            <a:off x="3643200" y="4857840"/>
            <a:ext cx="150120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6 CuadroTexto"/>
          <p:cNvSpPr/>
          <p:nvPr/>
        </p:nvSpPr>
        <p:spPr>
          <a:xfrm>
            <a:off x="5286240" y="57150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Biosínteis lipidos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19320" y="41911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172200" y="1371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50280" y="549360"/>
            <a:ext cx="8916120" cy="947160"/>
          </a:xfrm>
          <a:prstGeom prst="rect">
            <a:avLst/>
          </a:prstGeom>
          <a:solidFill>
            <a:srgbClr val="b9d4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el aporte de nutrientes supera las nece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a cé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generales de la Biosíntesis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5280" y="252576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 tiene lugar en el CITOSOL, en plantas en los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9640" y="5516640"/>
            <a:ext cx="828036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95280" y="1773360"/>
            <a:ext cx="828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ándula ma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9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ácidos  grasos se sintetizan en citosol a partir de acetil-C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til-CoA que se produce en mitocondria debe estar disponible en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0:20:25Z</dcterms:created>
  <dc:creator>Irma</dc:creator>
  <dc:description/>
  <dc:language>en-US</dc:language>
  <cp:lastModifiedBy>Usuario</cp:lastModifiedBy>
  <dcterms:modified xsi:type="dcterms:W3CDTF">2012-05-28T22:03:08Z</dcterms:modified>
  <cp:revision>200</cp:revision>
  <dc:subject/>
  <dc:title>Diapositiva 1</dc:title>
</cp:coreProperties>
</file>